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A0D-5FBC-43D5-B460-5E3105AA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AAC-4859-47C9-86ED-5BA7D47C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85B91-7219-4646-9271-D89F212E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98838-E3E5-4353-8899-BDB409A1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0B73A-1A87-45A9-B4BB-A8DB8180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BF706-6FAC-4A54-827D-932703A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D76E6-3694-44AD-B02F-6A6FA62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6EA7-F941-4174-8FBF-CB29FAEA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E0091-EB6B-497C-B9B7-7E8785D5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BD067-DF2D-49AE-87F7-D6DDA05E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C5D46-4753-4A1C-9054-DC5AC76E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881C2-285B-4F97-843A-F9CA5B75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64C-F9B0-486F-AE8F-FE3251EA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DB9FA-DFCA-4176-8228-B3FEF433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E207D-FD81-400C-BE0A-DB40ED8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D8FA2-EA12-41D2-95A0-B2889D5F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4B70A-697E-4C0B-8130-DF3E6ED1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BEE9B-C2A2-4784-BECA-8C77D9C9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31AA7-1846-480A-AC8F-04050770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A5629-FD2A-4648-B047-6DA578A1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6B0CF-C925-44B3-9A29-5D046795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7925A-C3BE-48C1-A950-2347B283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37282-C578-4DE7-9BC8-A3FD8E84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6E4-3F8D-4494-997A-86299A2B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D23FB-E8FA-48F2-BA33-8EA3155B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56B9-8136-44B9-B2FD-F21FC7C6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5BD34-E22A-4ED8-A7C5-D4FC07D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ADFC-8D83-4BD0-8FB0-8429ACDC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4A4F6-AFED-4C1C-B46D-5B7B0C2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502C4-93AD-4A1D-AE08-C8457B18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BC39-3753-4DF6-924A-F4EB111D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9AC8E-8416-4EE7-8E59-F5CB1A2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D3AFB-8D02-4819-86ED-A59BC95B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D37B0-C54B-4674-8200-54715877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E28A-07BF-4FA2-B144-B0602995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F3EE9-A2BA-491C-9C46-16742045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45A8A-B2B1-4BB6-878F-5023291B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9811E-5D53-43A8-8478-555C42AE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86F62-DEE1-4D3D-9C03-359DD8B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790C8-759B-433E-8AAE-71F96A36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51F89-4A38-406D-AA24-081BC6A3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E7890-61EE-4320-BBA8-0CD67EE7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54AE2-7EC0-4B92-9833-AE472B2F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3717C-F8FF-4F86-B6CE-58E8FAE9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E7888-26A7-4508-9B24-5A8564A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FEE3-E2D3-4858-A57F-55CDBE8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F74D9-530B-463E-8BC2-3A745D7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506C3-1C90-4CFA-9BB2-915A0818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FD2B8-CEAA-42CB-A4F0-860EE16D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794ED-3ED5-4A6D-9E65-9AF7F393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A8EBA-F885-4BE8-9C52-C56B43FD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EB2B9-9F42-434A-8818-B948B3C4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4A1E3-3821-4B1E-9627-FFDC78B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80AC8-FB64-4F3A-9584-BE6ACEF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2069C-DD2C-48B9-8CD3-7938F0A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68E94-EBE8-4BB6-86BE-DED12B92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7C43-6CB6-4FA4-A0E2-A66FD767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63391-1837-4ED4-8A08-91F5DA3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B7199-FB77-45E7-845D-4D215B8F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E1421-4884-4EFB-81FA-BA2ADF2C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4D544-3E81-4E5F-89FE-6A0757B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BB362-4721-4C13-8605-D1C9CC0E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8C8A6-85D5-4AA6-833B-7A35F7AA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94678-12AD-4440-8E9D-3D07F19F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D04AA-CD86-4B69-AEBD-BE0B9155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24A5D-AF9E-4566-9D04-3983C0D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E8376-9BA4-4049-895D-033EA031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244C-F817-4B75-98A7-D6B6EE6B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7C5C9-CF20-4E0E-8636-9167A2CB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C1B1D2-A740-4FD3-85AA-59A631B8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4B047-85F7-455B-9348-0F9360D2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E07B0-39C4-4317-B685-30A3A4F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CE55E-2330-42D6-A7C8-C6F4079B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1C6BE-9F61-438F-864B-9823953F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66A3B-08D7-4B6C-BCE6-D95675F6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FCDD4-592D-44F8-9DB9-AFD6DCE7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2F9D1-7608-44DB-B2A3-C7F5AA14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113FD-67E5-4C98-81F7-8E0E4F2F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ABAA-CAC1-44ED-ABD8-12832C8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CE02C-1D13-47CC-9FA9-92D685D1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1C11D-114A-4D7B-B418-D942C56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FF898-F6BB-41B9-82EB-333FDE8E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9C110-62FE-417C-953C-119E4637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32D34-ED46-4318-872D-02542657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C3BFA-FD2E-424E-9D1A-D38B33C8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0FF9F1-4232-4517-93CF-49BE9A0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FC88C-D48A-437D-A758-52C5E49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34898-8C7A-4D43-B614-E992607C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641BF-8644-4C77-9BB7-7AEAFD92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66E4-B89E-4A16-89C1-897CC608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F3E5C-FEBD-4536-BEB3-A4CEF6B2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831E4-6428-40D8-A42D-4FC8273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C5737-0617-49F5-956E-B4ACDF3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3A877-6302-4787-B433-752B06A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E75A5B-315C-4178-B104-17F4A1B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533BA1-B729-42B0-99A3-55BEFC6D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B79D7-DE80-4976-B0AE-1509FF1C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562A7-06FA-432D-96EC-79DADBD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A74B2-7E39-4E82-B056-50D18B98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A4D60-A402-4239-92CA-27B7603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E979-324D-4888-A2EC-90342C5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F99D5-DC7A-4E04-8D7F-F2F76CD2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AA946-A150-49FB-A97F-4A81E98B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458DE-F604-4078-A3B7-5EA40151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038-EEDE-45BD-8230-BEF444A0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F90-5BAC-4746-882C-AD725F4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1835-79F3-431A-9196-8D54B9D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1FD4-2B20-4C9F-84EE-591A5D7F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2A7E-622F-4697-ACC6-BA2EA181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03AB-C5BD-4E38-BB94-FB5B652D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A83E-AA4B-4917-907F-DCFEE96C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E158-97E0-4669-AE1F-F90F9BFC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B8DA-1E79-46CD-B723-113C429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D7EC-1252-4E5D-9E35-2E5305AF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2EE9B-51E8-467B-A1D7-64AEA2A0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4CA-5655-458A-8EE9-07161933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B974-0CCC-45B9-9C53-ED68F604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AACD-B3D7-4934-BFBB-ED7EAAF8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45CE-860C-4309-B52C-715B91BC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12B0-6965-4917-A60D-FD9FC29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CF0A-ADA6-49CF-9C0F-920D41DA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3C9B-F6C1-4710-819B-7D516EE7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C3F6-DFA1-4072-8883-F49EFCA8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FB64-6A87-4E6C-B742-B93F1952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247D-DC80-4622-9063-21669D5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2718-1CC4-4EA2-88B9-86CCAE5C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6C4-6C22-4839-95BC-EAB5993A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D1DB6-057D-41DF-A826-75A3BCAC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E402-5EC7-4744-AEF7-4D72FCDC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6EC2-044B-4A70-B4DC-74BF02C0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543F-3D19-4C42-86A1-0E796C34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9F7C-E7A5-4F2E-8626-0E5E2E3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14C6-EE0F-4E12-B691-0A80544B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F493-99FD-4A6D-A743-1204B9D4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907D-4A40-44DC-B327-CC076823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3AEC3-0C7D-4213-B598-964BA61B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58D73-E995-4B9A-BA77-07975D74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E3E-043A-4AB2-AB63-D9379796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EC6F0-E34D-4E62-9300-15CB337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A1C4-6390-41B3-A613-3A9BD556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BFEA-46AB-404C-B1D3-0044F37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F4586-D0D5-4FE7-9781-63DFE15F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3F0D8-8AF7-4122-AAD3-80449669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2447-A993-409D-AD2C-443D03C4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B6411-87C7-495C-BEBC-B2CA507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85F70-3C92-433B-A02F-B0657120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0529-1D4E-410E-962D-6DF9B9D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353D-7854-4311-8909-2C7DAF87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D2E-C338-4FDE-B92B-6D475921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846C-8B08-4079-9FFA-D19457AF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09DC-A40C-4054-9EB0-DD1A4172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B3E18-D27E-4E1E-8093-8942CC66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304D0-2ABB-4FBE-8A3E-58729A33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54E3-326E-473A-8377-CE7FBC75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D305D-D070-4777-8C00-ABCBA86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6B5AF-9851-4EE7-837A-94DAA4F8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8B3D5-650D-419B-8920-73220AF7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CF8C-A76D-4266-9EDB-07650FD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771CA-6A90-435A-87B0-AD1F103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A6F-5B5C-4F87-AB30-7415DD07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F4B71-5ACE-4215-9202-A79C566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272D-251B-4E2F-8E4A-569A08E2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9E3E2-520C-4AC6-A831-43854234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2332-40D2-499C-B29C-B10B2F88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E5ED6-1E46-4CB5-8FB8-2B6AC13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6BF2D-671A-4CAA-B684-D27C0784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1898B-4856-49FE-8786-F3CB201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C0C1-D53B-4405-B45A-3B33CB31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B47B6-239B-409E-943B-62632BE7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568C1-1AFE-432D-A8D1-B3F64021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E448-7C08-44C8-BC28-DB10955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014EA-EA6B-4AF7-80A2-1AC9DE1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E614B-28DF-4FDB-BCAE-EA3373E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38017-50C8-4552-899A-7B30D827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3CF3-55E4-4767-A3AB-2B528A29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F473-5B17-45F9-9AE3-D5E1B2B5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59FA5-42FA-4CFB-940F-ABAB07D9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C9D13-C514-4E5F-8737-B17E13FE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BFEA3-C4D4-466C-8A92-7B74ABFE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09F1-CBF2-4F65-951A-A1E0D11C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821C-826F-44CC-B0BC-4793D1A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88B-771D-4E68-8C92-D885BED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48258-E353-4593-B3AD-42B9BF53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9909F-1463-4BAF-BFE9-40EED39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DAFD-7EF9-4ABB-A32C-24A81125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6BF41-D372-4904-A7D2-0F4E102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5FB6D-A1D2-4355-9EC3-8DEB817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AF57E-B0B9-48FB-AEAE-CC149ECD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5586-06D1-42A5-A363-F959BFFC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AA4E3-3308-4BA0-A7D2-DECEE289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545D8-A296-4148-848E-DF027C8C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414F9-DE63-4C36-B549-6C87B43D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98DD-177C-455E-BFCD-AF9BF1D54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5254-92FB-4055-87B6-B3BB975624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BBC-92DA-4A26-8572-594C6F2606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ED78-FE28-4140-88CF-D2075CA6B8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D45-2E10-4200-8CF7-F4D5DFE7EC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23A-D37C-4DA1-8D49-C1C1E03944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D620-3A4C-4136-92E9-2C7C23E49A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6C0-CC75-44A0-B340-214752A76D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7F37-4F91-443F-A18F-D959196324A6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6E80-9D6E-4DF2-8B47-2F1F9646D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4D45-7820-44F3-8DC4-3E04058ABF66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727-2106-41D0-BC77-F503F1F3C280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28B-0F18-4EDB-B800-FA1316738D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CC07-75A1-43DA-B7E2-D775083443E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EBE-2042-4342-942A-67E6263D2E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F699-66EE-4F08-8B16-D62B0DC8C0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2119320" y="404640"/>
            <a:ext cx="422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Матема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3492360" y="1268280"/>
            <a:ext cx="14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361800" y="2421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Деление многозначного числа на двузнач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Рисунок 3" descr="post-56918-1250505756.png"/>
          <p:cNvPicPr/>
          <p:nvPr/>
        </p:nvPicPr>
        <p:blipFill>
          <a:blip r:embed="rId2"/>
          <a:stretch/>
        </p:blipFill>
        <p:spPr>
          <a:xfrm>
            <a:off x="5580000" y="3141720"/>
            <a:ext cx="1857600" cy="2784240"/>
          </a:xfrm>
          <a:prstGeom prst="rect">
            <a:avLst/>
          </a:prstGeom>
          <a:ln w="0">
            <a:noFill/>
          </a:ln>
        </p:spPr>
      </p:pic>
      <p:pic>
        <p:nvPicPr>
          <p:cNvPr id="661" name="Рисунок 2" descr="post-56918-1250421038.png"/>
          <p:cNvPicPr/>
          <p:nvPr/>
        </p:nvPicPr>
        <p:blipFill>
          <a:blip r:embed="rId3"/>
          <a:stretch/>
        </p:blipFill>
        <p:spPr>
          <a:xfrm>
            <a:off x="0" y="3621240"/>
            <a:ext cx="18921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2" descr="Картинки по запросу картинки на клетках тетра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4"/>
          <p:cNvSpPr/>
          <p:nvPr/>
        </p:nvSpPr>
        <p:spPr>
          <a:xfrm>
            <a:off x="4680" y="-34920"/>
            <a:ext cx="9139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жнённые урав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6"/>
          <p:cNvSpPr/>
          <p:nvPr/>
        </p:nvSpPr>
        <p:spPr>
          <a:xfrm>
            <a:off x="123480" y="746280"/>
            <a:ext cx="31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8 - х)  31  = 15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"/>
          <p:cNvSpPr/>
          <p:nvPr/>
        </p:nvSpPr>
        <p:spPr>
          <a:xfrm>
            <a:off x="1337400" y="3459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4836240" y="76356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10+1206:у=3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2" descr="Картинки по запросу картинки на клетках тетра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TextBox 9"/>
          <p:cNvSpPr/>
          <p:nvPr/>
        </p:nvSpPr>
        <p:spPr>
          <a:xfrm>
            <a:off x="4680" y="-34920"/>
            <a:ext cx="91393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а на нахождение неизвестного по двум разнос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ая соединительная линия 4"/>
          <p:cNvSpPr/>
          <p:nvPr/>
        </p:nvSpPr>
        <p:spPr>
          <a:xfrm>
            <a:off x="826920" y="11970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ая соединительная линия 6"/>
          <p:cNvSpPr/>
          <p:nvPr/>
        </p:nvSpPr>
        <p:spPr>
          <a:xfrm>
            <a:off x="828720" y="1879560"/>
            <a:ext cx="2303280" cy="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ая соединительная линия 8"/>
          <p:cNvSpPr/>
          <p:nvPr/>
        </p:nvSpPr>
        <p:spPr>
          <a:xfrm>
            <a:off x="826920" y="1052640"/>
            <a:ext cx="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ая соединительная линия 12"/>
          <p:cNvSpPr/>
          <p:nvPr/>
        </p:nvSpPr>
        <p:spPr>
          <a:xfrm>
            <a:off x="826920" y="1692360"/>
            <a:ext cx="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13"/>
          <p:cNvSpPr/>
          <p:nvPr/>
        </p:nvSpPr>
        <p:spPr>
          <a:xfrm>
            <a:off x="4356000" y="1014480"/>
            <a:ext cx="0" cy="36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14"/>
          <p:cNvSpPr/>
          <p:nvPr/>
        </p:nvSpPr>
        <p:spPr>
          <a:xfrm>
            <a:off x="3129120" y="973080"/>
            <a:ext cx="0" cy="262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15"/>
          <p:cNvSpPr/>
          <p:nvPr/>
        </p:nvSpPr>
        <p:spPr>
          <a:xfrm>
            <a:off x="3129120" y="137952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16"/>
          <p:cNvSpPr/>
          <p:nvPr/>
        </p:nvSpPr>
        <p:spPr>
          <a:xfrm>
            <a:off x="3129120" y="1771560"/>
            <a:ext cx="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7"/>
          <p:cNvSpPr/>
          <p:nvPr/>
        </p:nvSpPr>
        <p:spPr>
          <a:xfrm>
            <a:off x="236160" y="71136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8"/>
          <p:cNvSpPr/>
          <p:nvPr/>
        </p:nvSpPr>
        <p:spPr>
          <a:xfrm>
            <a:off x="202320" y="1509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22"/>
          <p:cNvSpPr/>
          <p:nvPr/>
        </p:nvSpPr>
        <p:spPr>
          <a:xfrm>
            <a:off x="1542240" y="60336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3"/>
          <p:cNvSpPr/>
          <p:nvPr/>
        </p:nvSpPr>
        <p:spPr>
          <a:xfrm>
            <a:off x="1674000" y="139536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4"/>
          <p:cNvSpPr/>
          <p:nvPr/>
        </p:nvSpPr>
        <p:spPr>
          <a:xfrm>
            <a:off x="3427200" y="67320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5"/>
          <p:cNvSpPr/>
          <p:nvPr/>
        </p:nvSpPr>
        <p:spPr>
          <a:xfrm>
            <a:off x="3487680" y="119700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27"/>
          <p:cNvSpPr/>
          <p:nvPr/>
        </p:nvSpPr>
        <p:spPr>
          <a:xfrm>
            <a:off x="5794920" y="1417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20"/>
          <p:cNvSpPr/>
          <p:nvPr/>
        </p:nvSpPr>
        <p:spPr>
          <a:xfrm>
            <a:off x="5430960" y="1376280"/>
            <a:ext cx="384120" cy="419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9"/>
          <p:cNvSpPr/>
          <p:nvPr/>
        </p:nvSpPr>
        <p:spPr>
          <a:xfrm>
            <a:off x="5819400" y="73836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4"/>
          <p:cNvSpPr/>
          <p:nvPr/>
        </p:nvSpPr>
        <p:spPr>
          <a:xfrm>
            <a:off x="5416560" y="763560"/>
            <a:ext cx="3985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8"/>
          <p:cNvSpPr/>
          <p:nvPr/>
        </p:nvSpPr>
        <p:spPr>
          <a:xfrm>
            <a:off x="108000" y="2114640"/>
            <a:ext cx="90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600-400=200 (км) – за 10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00:10=20(км) – за 1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600: 20= 30 (ч) – на 6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400:20=20 (ч) – на 40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9360" y="0"/>
          <a:ext cx="9123480" cy="6521400"/>
        </p:xfrm>
        <a:graphic>
          <a:graphicData uri="http://schemas.openxmlformats.org/drawingml/2006/table">
            <a:tbl>
              <a:tblPr/>
              <a:tblGrid>
                <a:gridCol w="3699000"/>
                <a:gridCol w="2711520"/>
                <a:gridCol w="2712960"/>
              </a:tblGrid>
              <a:tr h="105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щенные ошиб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кой причине могла быть допущена 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ужно сделать, чтобы не допустить ошиб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рямоугольника со сторонами 7см и 3 см равна 20 с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комнаты 18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88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    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6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дороги 20км. Прошли две пятых дороги. Сколько км дороги прош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:2*5=50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65" name="Прямая соединительная линия 2"/>
          <p:cNvSpPr/>
          <p:nvPr/>
        </p:nvSpPr>
        <p:spPr>
          <a:xfrm>
            <a:off x="757080" y="321804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4"/>
          <p:cNvSpPr/>
          <p:nvPr/>
        </p:nvSpPr>
        <p:spPr>
          <a:xfrm>
            <a:off x="757080" y="35132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ая соединительная линия 7"/>
          <p:cNvSpPr/>
          <p:nvPr/>
        </p:nvSpPr>
        <p:spPr>
          <a:xfrm>
            <a:off x="290520" y="436572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14"/>
          <p:cNvSpPr/>
          <p:nvPr/>
        </p:nvSpPr>
        <p:spPr>
          <a:xfrm>
            <a:off x="74520" y="37688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16"/>
          <p:cNvSpPr/>
          <p:nvPr/>
        </p:nvSpPr>
        <p:spPr>
          <a:xfrm>
            <a:off x="150840" y="407664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19"/>
          <p:cNvSpPr/>
          <p:nvPr/>
        </p:nvSpPr>
        <p:spPr>
          <a:xfrm>
            <a:off x="20520" y="350028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17"/>
          <p:cNvSpPr/>
          <p:nvPr/>
        </p:nvSpPr>
        <p:spPr>
          <a:xfrm>
            <a:off x="356400" y="28526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26"/>
          <p:cNvSpPr/>
          <p:nvPr/>
        </p:nvSpPr>
        <p:spPr>
          <a:xfrm>
            <a:off x="3708360" y="1052640"/>
            <a:ext cx="25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шёл не площадь, а периметр прям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27"/>
          <p:cNvSpPr/>
          <p:nvPr/>
        </p:nvSpPr>
        <p:spPr>
          <a:xfrm>
            <a:off x="6443640" y="1052640"/>
            <a:ext cx="27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ь отличие формул нахождения периметра и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8"/>
          <p:cNvSpPr/>
          <p:nvPr/>
        </p:nvSpPr>
        <p:spPr>
          <a:xfrm>
            <a:off x="3703680" y="2098800"/>
            <a:ext cx="25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еправильно написал единицу измерения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29"/>
          <p:cNvSpPr/>
          <p:nvPr/>
        </p:nvSpPr>
        <p:spPr>
          <a:xfrm>
            <a:off x="6443640" y="2098800"/>
            <a:ext cx="27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ть, что площадь измеряется в квадратных единиц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30"/>
          <p:cNvSpPr/>
          <p:nvPr/>
        </p:nvSpPr>
        <p:spPr>
          <a:xfrm>
            <a:off x="3703680" y="3213000"/>
            <a:ext cx="27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е определил количество цифр в част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49151"/>
          <p:cNvSpPr/>
          <p:nvPr/>
        </p:nvSpPr>
        <p:spPr>
          <a:xfrm>
            <a:off x="6459480" y="321300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алгоритм письменного д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9152"/>
          <p:cNvSpPr/>
          <p:nvPr/>
        </p:nvSpPr>
        <p:spPr>
          <a:xfrm>
            <a:off x="3703680" y="4867200"/>
            <a:ext cx="273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шёл не часть от числа, а число по его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49154"/>
          <p:cNvSpPr/>
          <p:nvPr/>
        </p:nvSpPr>
        <p:spPr>
          <a:xfrm>
            <a:off x="6443640" y="4867200"/>
            <a:ext cx="26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правила и запомнить их от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9156"/>
          <p:cNvSpPr/>
          <p:nvPr/>
        </p:nvSpPr>
        <p:spPr>
          <a:xfrm>
            <a:off x="54000" y="27000"/>
            <a:ext cx="9128160" cy="1096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учеников 4 класса встретились ошибки. Определи по какой причине учащиеся могли их допустить, посоветуй, что нужно делать, чтобы следующий раз такая ошибка не повтор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AutoShape 4"/>
          <p:cNvSpPr/>
          <p:nvPr/>
        </p:nvSpPr>
        <p:spPr>
          <a:xfrm>
            <a:off x="1116000" y="692280"/>
            <a:ext cx="1062000" cy="121428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042920" y="4437000"/>
            <a:ext cx="1062000" cy="1200240"/>
          </a:xfrm>
          <a:prstGeom prst="smileyFace">
            <a:avLst>
              <a:gd name="adj" fmla="val -465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116000" y="2276640"/>
            <a:ext cx="1062000" cy="1143000"/>
          </a:xfrm>
          <a:prstGeom prst="smileyFace">
            <a:avLst>
              <a:gd name="adj" fmla="val 19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8"/>
          <p:cNvSpPr/>
          <p:nvPr/>
        </p:nvSpPr>
        <p:spPr>
          <a:xfrm>
            <a:off x="3071880" y="928800"/>
            <a:ext cx="550080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Урок прошел удач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Я доволен с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Мне было трудно, но я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 c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авлялся с зад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Я вполне доволен соб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не было очень тру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Мне нужна 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2" descr="C:\Users\User\Desktop\Новая папка\0_71429_c7bb8734_XL.png"/>
          <p:cNvPicPr/>
          <p:nvPr/>
        </p:nvPicPr>
        <p:blipFill>
          <a:blip r:embed="rId1"/>
          <a:stretch/>
        </p:blipFill>
        <p:spPr>
          <a:xfrm>
            <a:off x="4254480" y="3257640"/>
            <a:ext cx="4889520" cy="3600360"/>
          </a:xfrm>
          <a:prstGeom prst="rect">
            <a:avLst/>
          </a:prstGeom>
          <a:ln w="0">
            <a:noFill/>
          </a:ln>
        </p:spPr>
      </p:pic>
      <p:pic>
        <p:nvPicPr>
          <p:cNvPr id="787" name="Рисунок 4" descr="C:\Users\1\Desktop\2015-01-06\Mail0001.JPG"/>
          <p:cNvPicPr/>
          <p:nvPr/>
        </p:nvPicPr>
        <p:blipFill>
          <a:blip r:embed="rId2"/>
          <a:stretch/>
        </p:blipFill>
        <p:spPr>
          <a:xfrm>
            <a:off x="900000" y="1557360"/>
            <a:ext cx="26701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"/>
          <p:cNvSpPr/>
          <p:nvPr/>
        </p:nvSpPr>
        <p:spPr>
          <a:xfrm>
            <a:off x="33480" y="20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получится, если умножить делитель на част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Рисунок 1" descr="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2"/>
          <p:cNvSpPr/>
          <p:nvPr/>
        </p:nvSpPr>
        <p:spPr>
          <a:xfrm>
            <a:off x="0" y="1084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 каком из квадратиков закрашена ровно треть клеточе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3"/>
          <p:cNvSpPr/>
          <p:nvPr/>
        </p:nvSpPr>
        <p:spPr>
          <a:xfrm>
            <a:off x="4043160" y="383364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3579840" y="59364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Багетная рамка 14"/>
          <p:cNvSpPr/>
          <p:nvPr/>
        </p:nvSpPr>
        <p:spPr>
          <a:xfrm>
            <a:off x="3568680" y="674640"/>
            <a:ext cx="137160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Багетная рамка 16"/>
          <p:cNvSpPr/>
          <p:nvPr/>
        </p:nvSpPr>
        <p:spPr>
          <a:xfrm>
            <a:off x="3616200" y="4259160"/>
            <a:ext cx="137160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оугольник 4"/>
          <p:cNvSpPr/>
          <p:nvPr/>
        </p:nvSpPr>
        <p:spPr>
          <a:xfrm>
            <a:off x="0" y="4888080"/>
            <a:ext cx="93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итя вышел  из дома в 11 ч. 45 мин. и шёл до библиотеки 25 мин. Во сколько Витя пришёл в библиоте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3"/>
          <p:cNvSpPr/>
          <p:nvPr/>
        </p:nvSpPr>
        <p:spPr>
          <a:xfrm>
            <a:off x="3368520" y="59230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ч. 10 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Багетная рамка 19"/>
          <p:cNvSpPr/>
          <p:nvPr/>
        </p:nvSpPr>
        <p:spPr>
          <a:xfrm>
            <a:off x="3346560" y="6084720"/>
            <a:ext cx="2154240" cy="4003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Прямоугольник 2"/>
          <p:cNvSpPr/>
          <p:nvPr/>
        </p:nvSpPr>
        <p:spPr>
          <a:xfrm>
            <a:off x="19080" y="223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м выражении последним действием будет умно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+c*b-d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c*k)*(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+p-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*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-c*a)*k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6664320" y="109872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c*k)*(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Багетная рамка 5"/>
          <p:cNvSpPr/>
          <p:nvPr/>
        </p:nvSpPr>
        <p:spPr>
          <a:xfrm>
            <a:off x="6696000" y="1239840"/>
            <a:ext cx="219708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4"/>
          <p:cNvSpPr/>
          <p:nvPr/>
        </p:nvSpPr>
        <p:spPr>
          <a:xfrm>
            <a:off x="19080" y="20541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спользуя свойства, выпиши верное равен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6 ∙ 10 ∙ 6 &lt; 356 ∙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8 ∙ 24 &lt; 478 ∙ (3 ∙ 9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6 ∙ 80 = 296 ∙ (10 +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5640840" y="27464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8 ∙ 24 &lt; 478 ∙ (3 ∙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Багетная рамка 8"/>
          <p:cNvSpPr/>
          <p:nvPr/>
        </p:nvSpPr>
        <p:spPr>
          <a:xfrm>
            <a:off x="5622840" y="2870280"/>
            <a:ext cx="327024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6"/>
          <p:cNvSpPr/>
          <p:nvPr/>
        </p:nvSpPr>
        <p:spPr>
          <a:xfrm>
            <a:off x="-3240" y="3870360"/>
            <a:ext cx="914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 какой из формул можно найти длину прямоуголь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*2+в*2     (Р-в*2):2        а*в:2                (а+в)*2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9"/>
          <p:cNvSpPr/>
          <p:nvPr/>
        </p:nvSpPr>
        <p:spPr>
          <a:xfrm>
            <a:off x="3377160" y="56545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в*2):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Багетная рамка 11"/>
          <p:cNvSpPr/>
          <p:nvPr/>
        </p:nvSpPr>
        <p:spPr>
          <a:xfrm>
            <a:off x="2700360" y="5778360"/>
            <a:ext cx="3268800" cy="4003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1"/>
          <p:cNvSpPr/>
          <p:nvPr/>
        </p:nvSpPr>
        <p:spPr>
          <a:xfrm>
            <a:off x="-17640" y="0"/>
            <a:ext cx="903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Барон Мюнхгаузен пересчитал число волшебных волос в бороде старика Хоттабыча. Оно оказалось равным сумме наименьшего трёхзначного числа и наибольшего двузначного. Что это за чи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4"/>
          <p:cNvSpPr/>
          <p:nvPr/>
        </p:nvSpPr>
        <p:spPr>
          <a:xfrm>
            <a:off x="5151600" y="1413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Багетная рамка 6"/>
          <p:cNvSpPr/>
          <p:nvPr/>
        </p:nvSpPr>
        <p:spPr>
          <a:xfrm>
            <a:off x="5110200" y="1474920"/>
            <a:ext cx="14065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елитель 7, частное 12, остаток 3. Найди дел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3927600" y="2655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Багетная рамка 9"/>
          <p:cNvSpPr/>
          <p:nvPr/>
        </p:nvSpPr>
        <p:spPr>
          <a:xfrm>
            <a:off x="3703680" y="2717640"/>
            <a:ext cx="1299960" cy="4003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рямоугольник 8"/>
          <p:cNvSpPr/>
          <p:nvPr/>
        </p:nvSpPr>
        <p:spPr>
          <a:xfrm>
            <a:off x="-17640" y="3219480"/>
            <a:ext cx="916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ое число верно записано, в кото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6 единиц II класса, 7единиц I класс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6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40600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40607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406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Прямоугольник 10"/>
          <p:cNvSpPr/>
          <p:nvPr/>
        </p:nvSpPr>
        <p:spPr>
          <a:xfrm>
            <a:off x="6809760" y="365904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6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Багетная рамка 12"/>
          <p:cNvSpPr/>
          <p:nvPr/>
        </p:nvSpPr>
        <p:spPr>
          <a:xfrm>
            <a:off x="6804000" y="3711600"/>
            <a:ext cx="144000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11"/>
          <p:cNvSpPr/>
          <p:nvPr/>
        </p:nvSpPr>
        <p:spPr>
          <a:xfrm>
            <a:off x="-17640" y="4768920"/>
            <a:ext cx="916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Мама сварила 12 л вишневого варенья и 18 л клубничного. Все варенье разлили в трехлитровые банки.  Сколько банок понадоб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3"/>
          <p:cNvSpPr/>
          <p:nvPr/>
        </p:nvSpPr>
        <p:spPr>
          <a:xfrm>
            <a:off x="5375160" y="585792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ба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Багетная рамка 15"/>
          <p:cNvSpPr/>
          <p:nvPr/>
        </p:nvSpPr>
        <p:spPr>
          <a:xfrm>
            <a:off x="5292720" y="5919840"/>
            <a:ext cx="163188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>
            <a:off x="0" y="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секаются 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АВ и отрезок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АВ и луч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АВ 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ые АВ 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АВ и С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АВ и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ДС и 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3"/>
          <p:cNvSpPr/>
          <p:nvPr/>
        </p:nvSpPr>
        <p:spPr>
          <a:xfrm>
            <a:off x="611280" y="595008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Блок-схема: узел 4"/>
          <p:cNvSpPr/>
          <p:nvPr/>
        </p:nvSpPr>
        <p:spPr>
          <a:xfrm>
            <a:off x="1042920" y="584208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Блок-схема: узел 5"/>
          <p:cNvSpPr/>
          <p:nvPr/>
        </p:nvSpPr>
        <p:spPr>
          <a:xfrm>
            <a:off x="2484360" y="584208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Блок-схема: узел 6"/>
          <p:cNvSpPr/>
          <p:nvPr/>
        </p:nvSpPr>
        <p:spPr>
          <a:xfrm>
            <a:off x="2916360" y="4527720"/>
            <a:ext cx="215640" cy="21744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Блок-схема: узел 7"/>
          <p:cNvSpPr/>
          <p:nvPr/>
        </p:nvSpPr>
        <p:spPr>
          <a:xfrm>
            <a:off x="4338720" y="5445000"/>
            <a:ext cx="21564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Блок-схема: узел 8"/>
          <p:cNvSpPr/>
          <p:nvPr/>
        </p:nvSpPr>
        <p:spPr>
          <a:xfrm>
            <a:off x="7380360" y="314172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Блок-схема: узел 9"/>
          <p:cNvSpPr/>
          <p:nvPr/>
        </p:nvSpPr>
        <p:spPr>
          <a:xfrm>
            <a:off x="6113520" y="4216320"/>
            <a:ext cx="216000" cy="216000"/>
          </a:xfrm>
          <a:prstGeom prst="flowChartConnector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ая соединительная линия 10"/>
          <p:cNvSpPr/>
          <p:nvPr/>
        </p:nvSpPr>
        <p:spPr>
          <a:xfrm>
            <a:off x="2060640" y="3979800"/>
            <a:ext cx="3178080" cy="2109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ая соединительная линия 12"/>
          <p:cNvSpPr/>
          <p:nvPr/>
        </p:nvSpPr>
        <p:spPr>
          <a:xfrm flipV="1">
            <a:off x="5435640" y="2708280"/>
            <a:ext cx="2736720" cy="22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5"/>
          <p:cNvSpPr/>
          <p:nvPr/>
        </p:nvSpPr>
        <p:spPr>
          <a:xfrm>
            <a:off x="922680" y="53722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6"/>
          <p:cNvSpPr/>
          <p:nvPr/>
        </p:nvSpPr>
        <p:spPr>
          <a:xfrm>
            <a:off x="2363760" y="5286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7"/>
          <p:cNvSpPr/>
          <p:nvPr/>
        </p:nvSpPr>
        <p:spPr>
          <a:xfrm>
            <a:off x="3029760" y="4100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9"/>
          <p:cNvSpPr/>
          <p:nvPr/>
        </p:nvSpPr>
        <p:spPr>
          <a:xfrm>
            <a:off x="5761800" y="3801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0"/>
          <p:cNvSpPr/>
          <p:nvPr/>
        </p:nvSpPr>
        <p:spPr>
          <a:xfrm>
            <a:off x="4346640" y="5011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1"/>
          <p:cNvSpPr/>
          <p:nvPr/>
        </p:nvSpPr>
        <p:spPr>
          <a:xfrm>
            <a:off x="7018920" y="272880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"/>
          <p:cNvSpPr/>
          <p:nvPr/>
        </p:nvSpPr>
        <p:spPr>
          <a:xfrm>
            <a:off x="4728600" y="40464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Багетная рамка 18"/>
          <p:cNvSpPr/>
          <p:nvPr/>
        </p:nvSpPr>
        <p:spPr>
          <a:xfrm>
            <a:off x="4572000" y="512640"/>
            <a:ext cx="140652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19"/>
          <p:cNvSpPr/>
          <p:nvPr/>
        </p:nvSpPr>
        <p:spPr>
          <a:xfrm>
            <a:off x="4747680" y="90972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20"/>
          <p:cNvSpPr/>
          <p:nvPr/>
        </p:nvSpPr>
        <p:spPr>
          <a:xfrm>
            <a:off x="4766040" y="131292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1"/>
          <p:cNvSpPr/>
          <p:nvPr/>
        </p:nvSpPr>
        <p:spPr>
          <a:xfrm>
            <a:off x="4744800" y="174132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22"/>
          <p:cNvSpPr/>
          <p:nvPr/>
        </p:nvSpPr>
        <p:spPr>
          <a:xfrm>
            <a:off x="4704120" y="220032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3"/>
          <p:cNvSpPr/>
          <p:nvPr/>
        </p:nvSpPr>
        <p:spPr>
          <a:xfrm>
            <a:off x="4811760" y="258300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24"/>
          <p:cNvSpPr/>
          <p:nvPr/>
        </p:nvSpPr>
        <p:spPr>
          <a:xfrm>
            <a:off x="4744800" y="30448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Багетная рамка 25"/>
          <p:cNvSpPr/>
          <p:nvPr/>
        </p:nvSpPr>
        <p:spPr>
          <a:xfrm>
            <a:off x="4573440" y="965160"/>
            <a:ext cx="140652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Багетная рамка 26"/>
          <p:cNvSpPr/>
          <p:nvPr/>
        </p:nvSpPr>
        <p:spPr>
          <a:xfrm>
            <a:off x="4554360" y="1414440"/>
            <a:ext cx="140688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Багетная рамка 27"/>
          <p:cNvSpPr/>
          <p:nvPr/>
        </p:nvSpPr>
        <p:spPr>
          <a:xfrm>
            <a:off x="4572000" y="1865160"/>
            <a:ext cx="1406520" cy="39852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Багетная рамка 28"/>
          <p:cNvSpPr/>
          <p:nvPr/>
        </p:nvSpPr>
        <p:spPr>
          <a:xfrm>
            <a:off x="4572000" y="2325600"/>
            <a:ext cx="14065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Багетная рамка 29"/>
          <p:cNvSpPr/>
          <p:nvPr/>
        </p:nvSpPr>
        <p:spPr>
          <a:xfrm>
            <a:off x="4575240" y="2776680"/>
            <a:ext cx="14065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Багетная рамка 30"/>
          <p:cNvSpPr/>
          <p:nvPr/>
        </p:nvSpPr>
        <p:spPr>
          <a:xfrm>
            <a:off x="4589640" y="3238560"/>
            <a:ext cx="1404720" cy="399960"/>
          </a:xfrm>
          <a:prstGeom prst="bevel">
            <a:avLst>
              <a:gd name="adj" fmla="val 1746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71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1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17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71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71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720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720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Box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ление на двузначн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Скругленный прямоугольник 5"/>
          <p:cNvSpPr/>
          <p:nvPr/>
        </p:nvSpPr>
        <p:spPr>
          <a:xfrm>
            <a:off x="250920" y="954000"/>
            <a:ext cx="8713800" cy="590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деляю первое неполное дел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яю количество цифр в  част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пределяю первую цифру част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бую подходит ли пробная цифра част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множаю полученную цифру частного на дел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ычит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Нахожу второе неполное делим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пределяю вторую цифру частного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Разделил все десятки дел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Деление оконч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Читаю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2246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2252520" y="-4680"/>
            <a:ext cx="422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Алгорит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Скругленный прямоугольник 2"/>
          <p:cNvSpPr/>
          <p:nvPr/>
        </p:nvSpPr>
        <p:spPr>
          <a:xfrm>
            <a:off x="338040" y="1122480"/>
            <a:ext cx="19144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Скругленный прямоугольник 3"/>
          <p:cNvSpPr/>
          <p:nvPr/>
        </p:nvSpPr>
        <p:spPr>
          <a:xfrm>
            <a:off x="2786040" y="112248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Скругленный прямоугольник 9"/>
          <p:cNvSpPr/>
          <p:nvPr/>
        </p:nvSpPr>
        <p:spPr>
          <a:xfrm>
            <a:off x="6224760" y="1135080"/>
            <a:ext cx="2447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Скругленный прямоугольник 10"/>
          <p:cNvSpPr/>
          <p:nvPr/>
        </p:nvSpPr>
        <p:spPr>
          <a:xfrm>
            <a:off x="5000760" y="2752560"/>
            <a:ext cx="2447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Рисунок 11" descr=""/>
          <p:cNvPicPr/>
          <p:nvPr/>
        </p:nvPicPr>
        <p:blipFill>
          <a:blip r:embed="rId2"/>
          <a:stretch/>
        </p:blipFill>
        <p:spPr>
          <a:xfrm>
            <a:off x="3367080" y="4005360"/>
            <a:ext cx="2409840" cy="2523960"/>
          </a:xfrm>
          <a:prstGeom prst="rect">
            <a:avLst/>
          </a:prstGeom>
          <a:ln w="0">
            <a:noFill/>
          </a:ln>
        </p:spPr>
      </p:pic>
      <p:sp>
        <p:nvSpPr>
          <p:cNvPr id="732" name="Скругленный прямоугольник 8"/>
          <p:cNvSpPr/>
          <p:nvPr/>
        </p:nvSpPr>
        <p:spPr>
          <a:xfrm>
            <a:off x="1514520" y="280188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Прямоугольник 3"/>
          <p:cNvSpPr/>
          <p:nvPr/>
        </p:nvSpPr>
        <p:spPr>
          <a:xfrm>
            <a:off x="12600" y="0"/>
            <a:ext cx="91314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из трёх чисел, записанных справа от выражения, будет первым неполным делим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837186: 93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            83          8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428 : 34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           142        1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21084 : 21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     21          2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788736 : 64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           7            7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234780:14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           23          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654327:87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            6            6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"Головоломки Стивенса"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данных примеров только один решен верн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 его за одну мину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Рисунок 7" descr="Файл:27.01-14.jpg"/>
          <p:cNvPicPr/>
          <p:nvPr/>
        </p:nvPicPr>
        <p:blipFill>
          <a:blip r:embed="rId2"/>
          <a:stretch/>
        </p:blipFill>
        <p:spPr>
          <a:xfrm>
            <a:off x="0" y="1446120"/>
            <a:ext cx="9144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7:56:57Z</dcterms:created>
  <dc:creator>adm</dc:creator>
  <dc:description/>
  <dc:language>en-US</dc:language>
  <cp:lastModifiedBy>USER</cp:lastModifiedBy>
  <dcterms:modified xsi:type="dcterms:W3CDTF">2021-11-02T08:01:03Z</dcterms:modified>
  <cp:revision>122</cp:revision>
  <dc:subject/>
  <dc:title> </dc:title>
</cp:coreProperties>
</file>